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15E94-86D1-4D56-A19B-32BDB17E3E09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14CA3-4878-4B25-BAA2-640B5C98DD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F8BA-4AEF-4981-B13E-F485CE58E117}" type="datetime">
              <a:rPr b="0" lang="ru-RU" sz="1200" spc="-1" strike="noStrike">
                <a:solidFill>
                  <a:srgbClr val="000000"/>
                </a:solidFill>
                <a:latin typeface="Arial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A27FC-A0BD-4C43-A005-87FB1B2684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3BC5-7D18-4B2C-B15F-B7FC55BA0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60C5-D63A-41F4-B0CC-77B97889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C8C12-D030-4C63-A270-448F4CBB5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C123-3CD6-4D98-AF32-0D6808896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9145-2D5E-40DF-9C85-C506B3E28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0CB11-9FBA-4913-BC14-BBCE49BE1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563-767E-4B5E-9082-152E0411D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5F190-D057-4047-9621-54F8569A5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047B-8F89-442F-B489-8E8079009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25A83-A178-4025-AFB9-BD03FAD09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8296-CF99-4F09-B753-FA505A65E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4E52D-8BF5-4EA7-8264-41235AD21E6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3517D-8FA7-4702-ABDA-5D8D71B294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2600" y="2642760"/>
            <a:ext cx="8001000" cy="2543400"/>
          </a:xfrm>
          <a:prstGeom prst="rect">
            <a:avLst/>
          </a:prstGeom>
          <a:gradFill rotWithShape="0">
            <a:gsLst>
              <a:gs pos="0">
                <a:srgbClr val="e4feff"/>
              </a:gs>
              <a:gs pos="100000">
                <a:srgbClr val="f6ffff"/>
              </a:gs>
            </a:gsLst>
            <a:lin ang="16200000"/>
          </a:gradFill>
          <a:ln w="9360">
            <a:solidFill>
              <a:srgbClr val="d5e8e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2060"/>
                </a:solidFill>
                <a:latin typeface="Arial"/>
              </a:rPr>
              <a:t>Олимпиадные задания</a:t>
            </a:r>
            <a:br>
              <a:rPr sz="6000"/>
            </a:b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987640" y="1125000"/>
            <a:ext cx="295272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4 клас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4"/>
          <p:cNvSpPr/>
          <p:nvPr/>
        </p:nvSpPr>
        <p:spPr>
          <a:xfrm>
            <a:off x="5872320" y="5500800"/>
            <a:ext cx="2927160" cy="1069200"/>
          </a:xfrm>
          <a:prstGeom prst="rect">
            <a:avLst/>
          </a:prstGeom>
          <a:solidFill>
            <a:srgbClr val="fffff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Шелгунова И.Н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йт: «Школа АБВ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http://www.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A96C5-28CB-492D-8C57-2CCE1161E7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Запиши данные существительные в форме родительного падежа множественного чис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5" descr="9"/>
          <p:cNvPicPr/>
          <p:nvPr/>
        </p:nvPicPr>
        <p:blipFill>
          <a:blip r:embed="rId2"/>
          <a:stretch/>
        </p:blipFill>
        <p:spPr>
          <a:xfrm>
            <a:off x="468360" y="189000"/>
            <a:ext cx="649080" cy="901440"/>
          </a:xfrm>
          <a:prstGeom prst="rect">
            <a:avLst/>
          </a:prstGeom>
          <a:ln w="0">
            <a:noFill/>
          </a:ln>
        </p:spPr>
      </p:pic>
      <p:sp>
        <p:nvSpPr>
          <p:cNvPr id="87" name="TextBox 1"/>
          <p:cNvSpPr/>
          <p:nvPr/>
        </p:nvSpPr>
        <p:spPr>
          <a:xfrm>
            <a:off x="328680" y="3213000"/>
            <a:ext cx="193968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Нос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Туф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Чу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Яблон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Весл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7"/>
          <p:cNvSpPr/>
          <p:nvPr/>
        </p:nvSpPr>
        <p:spPr>
          <a:xfrm>
            <a:off x="3924360" y="3262320"/>
            <a:ext cx="3516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Апельс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Капл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Знам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Бот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Шляп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2"/>
          <p:cNvSpPr/>
          <p:nvPr/>
        </p:nvSpPr>
        <p:spPr>
          <a:xfrm>
            <a:off x="1979640" y="3246480"/>
            <a:ext cx="21621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Нос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Туф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Чул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Яблон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Вёсе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Box 3"/>
          <p:cNvSpPr/>
          <p:nvPr/>
        </p:nvSpPr>
        <p:spPr>
          <a:xfrm>
            <a:off x="6312960" y="3262320"/>
            <a:ext cx="2674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Апельсин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Капел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Знамё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Ботин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Шля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E5E93-54D7-4B70-81C3-46AE3FC65E4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5120" y="14126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Разбери слова по состав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00"/>
                </a:solidFill>
                <a:latin typeface="Arial"/>
              </a:rPr>
              <a:t>Бездорожье, ошейник, подкожный, побережье, пододеяльник, довоенный, внеконкурсный, придорожный, подснежник, закулисный, бездумный, межсезонье, бессовестный, бесконечный, бесцельный, привокзальный, поветрие, бесформенн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0"/>
          <p:cNvPicPr/>
          <p:nvPr/>
        </p:nvPicPr>
        <p:blipFill>
          <a:blip r:embed="rId3"/>
          <a:stretch/>
        </p:blipFill>
        <p:spPr>
          <a:xfrm>
            <a:off x="755640" y="260280"/>
            <a:ext cx="579600" cy="8301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A1599-BFD7-441C-BDE1-D1E844B5AC2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Box 3"/>
          <p:cNvSpPr/>
          <p:nvPr/>
        </p:nvSpPr>
        <p:spPr>
          <a:xfrm>
            <a:off x="657360" y="1773360"/>
            <a:ext cx="7775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Где можно увидеть деревья высотой по колено и толщиной с карандаш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Это насекомое «поёт» крыльями, а слушает ногами. Кто это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К какой группе растений относится Банан? (деревья, кустарники, травы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3300"/>
                </a:solidFill>
                <a:latin typeface="Arial"/>
              </a:rPr>
              <a:t>Почему озимые хлеба дают больший урожай, чем яровые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4" descr="1"/>
          <p:cNvPicPr/>
          <p:nvPr/>
        </p:nvPicPr>
        <p:blipFill>
          <a:blip r:embed="rId3"/>
          <a:stretch/>
        </p:blipFill>
        <p:spPr>
          <a:xfrm>
            <a:off x="716040" y="260280"/>
            <a:ext cx="42840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692360" y="266400"/>
            <a:ext cx="7772400" cy="136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00"/>
                </a:solidFill>
                <a:latin typeface="Arial"/>
              </a:rPr>
              <a:t>ОКРУЖАЮЩИЙ МИ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C82478-CEC3-4B77-B617-5E8E4D42781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2"/>
          <p:cNvPicPr/>
          <p:nvPr/>
        </p:nvPicPr>
        <p:blipFill>
          <a:blip r:embed="rId3"/>
          <a:stretch/>
        </p:blipFill>
        <p:spPr>
          <a:xfrm>
            <a:off x="679320" y="260280"/>
            <a:ext cx="542880" cy="797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5"/>
          <p:cNvSpPr/>
          <p:nvPr/>
        </p:nvSpPr>
        <p:spPr>
          <a:xfrm>
            <a:off x="950760" y="1700280"/>
            <a:ext cx="7437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ая группа объектов относит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  живой природ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 Берёза, дом, соба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 Растение, пингвин, Пет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)Река, машина, тра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B37D9-7492-493E-AC0F-1C1C696CCE94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55640" y="2205000"/>
            <a:ext cx="7632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акие почвы особенно богаты перегное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) Песча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Б) Серые лес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) Глинист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)Чернозёмны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3"/>
          <p:cNvPicPr/>
          <p:nvPr/>
        </p:nvPicPr>
        <p:blipFill>
          <a:blip r:embed="rId3"/>
          <a:stretch/>
        </p:blipFill>
        <p:spPr>
          <a:xfrm>
            <a:off x="755640" y="249120"/>
            <a:ext cx="54936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9959B-7A22-4E62-9552-613B7124A32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Box 5"/>
          <p:cNvSpPr/>
          <p:nvPr/>
        </p:nvSpPr>
        <p:spPr>
          <a:xfrm>
            <a:off x="684360" y="1700280"/>
            <a:ext cx="79912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Основной признак, по которому можно узнать насекомых среди других животных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А) Крыль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Б) Три пары н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В) Чешу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Г) но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4"/>
          <p:cNvPicPr/>
          <p:nvPr/>
        </p:nvPicPr>
        <p:blipFill>
          <a:blip r:embed="rId3"/>
          <a:stretch/>
        </p:blipFill>
        <p:spPr>
          <a:xfrm>
            <a:off x="679320" y="166680"/>
            <a:ext cx="636840" cy="8701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00"/>
                </a:solidFill>
                <a:latin typeface="Arial"/>
              </a:rPr>
              <a:t>Окружающий ми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Дата 2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D34FA-4BEA-441B-9BDF-1D7B780DB95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1"/>
          <p:cNvPicPr/>
          <p:nvPr/>
        </p:nvPicPr>
        <p:blipFill>
          <a:blip r:embed="rId2"/>
          <a:stretch/>
        </p:blipFill>
        <p:spPr>
          <a:xfrm>
            <a:off x="250920" y="260280"/>
            <a:ext cx="428400" cy="79236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5"/>
          <p:cNvPicPr/>
          <p:nvPr/>
        </p:nvPicPr>
        <p:blipFill>
          <a:blip r:embed="rId3"/>
          <a:stretch/>
        </p:blipFill>
        <p:spPr>
          <a:xfrm>
            <a:off x="752400" y="182520"/>
            <a:ext cx="600120" cy="870120"/>
          </a:xfrm>
          <a:prstGeom prst="rect">
            <a:avLst/>
          </a:prstGeom>
          <a:ln w="0">
            <a:noFill/>
          </a:ln>
        </p:spPr>
      </p:pic>
      <p:sp>
        <p:nvSpPr>
          <p:cNvPr id="120" name="TextBox 5"/>
          <p:cNvSpPr/>
          <p:nvPr/>
        </p:nvSpPr>
        <p:spPr>
          <a:xfrm>
            <a:off x="900000" y="1757520"/>
            <a:ext cx="80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Найди соответствия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Box 8"/>
          <p:cNvSpPr/>
          <p:nvPr/>
        </p:nvSpPr>
        <p:spPr>
          <a:xfrm>
            <a:off x="460440" y="2492280"/>
            <a:ext cx="411156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спараг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альзам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ансевье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Традесканц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Фику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Box 10"/>
          <p:cNvSpPr/>
          <p:nvPr/>
        </p:nvSpPr>
        <p:spPr>
          <a:xfrm>
            <a:off x="4853160" y="2565360"/>
            <a:ext cx="4111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Ванька мокры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Щучий хвос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Тёщин язы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Бабьи сплет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гонё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аучуковое дерев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парж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Картинка 8 из 75371"/>
          <p:cNvPicPr/>
          <p:nvPr/>
        </p:nvPicPr>
        <p:blipFill>
          <a:blip r:embed="rId4"/>
          <a:stretch/>
        </p:blipFill>
        <p:spPr>
          <a:xfrm>
            <a:off x="341280" y="1371600"/>
            <a:ext cx="4468680" cy="448632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4" descr="Картинка 31 из 1295"/>
          <p:cNvPicPr/>
          <p:nvPr/>
        </p:nvPicPr>
        <p:blipFill>
          <a:blip r:embed="rId5"/>
          <a:stretch/>
        </p:blipFill>
        <p:spPr>
          <a:xfrm>
            <a:off x="249120" y="1773360"/>
            <a:ext cx="4664160" cy="35478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6" descr="Картинка 49 из 7130"/>
          <p:cNvPicPr/>
          <p:nvPr/>
        </p:nvPicPr>
        <p:blipFill>
          <a:blip r:embed="rId6"/>
          <a:stretch/>
        </p:blipFill>
        <p:spPr>
          <a:xfrm>
            <a:off x="334800" y="1712880"/>
            <a:ext cx="3329280" cy="44863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" descr="Картинка 131 из 9783"/>
          <p:cNvPicPr/>
          <p:nvPr/>
        </p:nvPicPr>
        <p:blipFill>
          <a:blip r:embed="rId7"/>
          <a:stretch/>
        </p:blipFill>
        <p:spPr>
          <a:xfrm>
            <a:off x="517680" y="1785960"/>
            <a:ext cx="2963880" cy="49435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2" descr="Картинка 3 из 2521"/>
          <p:cNvPicPr/>
          <p:nvPr/>
        </p:nvPicPr>
        <p:blipFill>
          <a:blip r:embed="rId8"/>
          <a:stretch/>
        </p:blipFill>
        <p:spPr>
          <a:xfrm>
            <a:off x="426960" y="1407960"/>
            <a:ext cx="3754440" cy="49435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4" descr="Картинка 18 из 23896"/>
          <p:cNvPicPr/>
          <p:nvPr/>
        </p:nvPicPr>
        <p:blipFill>
          <a:blip r:embed="rId9"/>
          <a:stretch/>
        </p:blipFill>
        <p:spPr>
          <a:xfrm>
            <a:off x="4900680" y="927000"/>
            <a:ext cx="3225600" cy="5119920"/>
          </a:xfrm>
          <a:prstGeom prst="rect">
            <a:avLst/>
          </a:prstGeom>
          <a:ln w="0">
            <a:noFill/>
          </a:ln>
        </p:spPr>
      </p:pic>
      <p:cxnSp>
        <p:nvCxnSpPr>
          <p:cNvPr id="129" name="Прямая со стрелкой 9"/>
          <p:cNvCxnSpPr/>
          <p:nvPr/>
        </p:nvCxnSpPr>
        <p:spPr>
          <a:xfrm>
            <a:off x="2842920" y="2770200"/>
            <a:ext cx="2010600" cy="289152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30" name="Прямая со стрелкой 18"/>
          <p:cNvCxnSpPr/>
          <p:nvPr/>
        </p:nvCxnSpPr>
        <p:spPr>
          <a:xfrm flipV="1">
            <a:off x="2842920" y="2856960"/>
            <a:ext cx="2010600" cy="50076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31" name="Прямая со стрелкой 21"/>
          <p:cNvCxnSpPr/>
          <p:nvPr/>
        </p:nvCxnSpPr>
        <p:spPr>
          <a:xfrm flipV="1">
            <a:off x="3131640" y="3357360"/>
            <a:ext cx="1721880" cy="41328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32" name="Прямая со стрелкой 24"/>
          <p:cNvCxnSpPr/>
          <p:nvPr/>
        </p:nvCxnSpPr>
        <p:spPr>
          <a:xfrm>
            <a:off x="3131640" y="3770280"/>
            <a:ext cx="1801080" cy="16416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33" name="Прямая со стрелкой 26"/>
          <p:cNvCxnSpPr>
            <a:endCxn id="122" idx="1"/>
          </p:cNvCxnSpPr>
          <p:nvPr/>
        </p:nvCxnSpPr>
        <p:spPr>
          <a:xfrm>
            <a:off x="3419640" y="4215960"/>
            <a:ext cx="1434240" cy="11844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  <p:cxnSp>
        <p:nvCxnSpPr>
          <p:cNvPr id="134" name="Прямая со стрелкой 29"/>
          <p:cNvCxnSpPr/>
          <p:nvPr/>
        </p:nvCxnSpPr>
        <p:spPr>
          <a:xfrm>
            <a:off x="1908000" y="4797000"/>
            <a:ext cx="3098160" cy="508680"/>
          </a:xfrm>
          <a:prstGeom prst="straightConnector1">
            <a:avLst/>
          </a:prstGeom>
          <a:ln w="69840">
            <a:solidFill>
              <a:srgbClr val="222268"/>
            </a:solidFill>
            <a:miter/>
            <a:tailEnd len="med" type="arrow" w="med"/>
          </a:ln>
        </p:spPr>
      </p:cxnSp>
    </p:spTree>
  </p:cSld>
  <p:transition spd="slow">
    <p:fade/>
  </p:transition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5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" dur="2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F8893-9F88-42AD-BB0E-122C0A97D31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3300"/>
                </a:solidFill>
                <a:latin typeface="Arial"/>
              </a:rPr>
              <a:t>1. </a:t>
            </a: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У котят и цыплят 42 ноги и 12 голов. Сколько было цыплят, а сколько котят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1"/>
          <p:cNvPicPr/>
          <p:nvPr/>
        </p:nvPicPr>
        <p:blipFill>
          <a:blip r:embed="rId2"/>
          <a:stretch/>
        </p:blipFill>
        <p:spPr>
          <a:xfrm>
            <a:off x="611280" y="260280"/>
            <a:ext cx="42840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4CA05-6600-46E4-9F09-772F4ED9B6D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Лена, Маша и Даша получили отметки за диктант по русскому языку. Какую отметку получила каждая девочка, если «двоек» в классе нет, а у девочек отметки разные, причём у Лены не «тройка», у Даши не «тройка» и не «пятёрка»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2"/>
          <p:cNvPicPr/>
          <p:nvPr/>
        </p:nvPicPr>
        <p:blipFill>
          <a:blip r:embed="rId2"/>
          <a:stretch/>
        </p:blipFill>
        <p:spPr>
          <a:xfrm>
            <a:off x="539640" y="260280"/>
            <a:ext cx="542880" cy="7970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57337-BEDB-4BD7-B885-EB2812F060E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асставь знаки действий и скобки так, чтобы получился верный ответ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3300"/>
                </a:solidFill>
                <a:latin typeface="Arial"/>
              </a:rPr>
              <a:t>5555=100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3"/>
          <p:cNvPicPr/>
          <p:nvPr/>
        </p:nvPicPr>
        <p:blipFill>
          <a:blip r:embed="rId2"/>
          <a:stretch/>
        </p:blipFill>
        <p:spPr>
          <a:xfrm>
            <a:off x="493560" y="260280"/>
            <a:ext cx="549360" cy="7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2C535-1D41-4D62-85C9-C62E63BD89D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39640" y="2349360"/>
            <a:ext cx="8229600" cy="233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Запиши числа в порядке возрастания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00"/>
                </a:solidFill>
                <a:latin typeface="Arial"/>
              </a:rPr>
              <a:t>1412, 402, 312, 4002, 124000, 103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4"/>
          <p:cNvPicPr/>
          <p:nvPr/>
        </p:nvPicPr>
        <p:blipFill>
          <a:blip r:embed="rId2"/>
          <a:stretch/>
        </p:blipFill>
        <p:spPr>
          <a:xfrm>
            <a:off x="395280" y="189000"/>
            <a:ext cx="636480" cy="86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986DD-304C-4CAF-9B14-27FC0B0062BE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Математи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4880" y="162828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Периметр квадрата раве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64 сантиметрам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Найди длину прямоугольник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с шириной 4 см 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площадью в 8 раз меньше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00"/>
                </a:solidFill>
                <a:latin typeface="Arial"/>
              </a:rPr>
              <a:t>чем площадь квадра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5"/>
          <p:cNvPicPr/>
          <p:nvPr/>
        </p:nvPicPr>
        <p:blipFill>
          <a:blip r:embed="rId2"/>
          <a:stretch/>
        </p:blipFill>
        <p:spPr>
          <a:xfrm>
            <a:off x="468360" y="189000"/>
            <a:ext cx="600120" cy="869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330A7-38C7-41CD-92C5-7D96A545C19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Запиши слова,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3300"/>
                </a:solidFill>
                <a:latin typeface="Arial"/>
              </a:rPr>
              <a:t>вставляя пропущенные буквы (где это необходимо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00"/>
                </a:solidFill>
                <a:latin typeface="Arial"/>
              </a:rPr>
              <a:t>Сер.ёзный, раз.езд, об.явление, без.ответственный, с.язвить, трёх.этажны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6"/>
          <p:cNvPicPr/>
          <p:nvPr/>
        </p:nvPicPr>
        <p:blipFill>
          <a:blip r:embed="rId2"/>
          <a:stretch/>
        </p:blipFill>
        <p:spPr>
          <a:xfrm>
            <a:off x="395280" y="189000"/>
            <a:ext cx="60660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D1580-A5C8-433F-AAFF-BC2FDE670B7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усский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Arial"/>
              </a:rPr>
              <a:t>Вставь пропущенные буквы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00"/>
                </a:solidFill>
                <a:latin typeface="Arial"/>
              </a:rPr>
              <a:t>раскрой скоб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(н…)кому  (н…)пис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(н…)где размест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(н…)куда (н…)езди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(н…)кому рассказать,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3300"/>
                </a:solidFill>
                <a:latin typeface="Arial"/>
              </a:rPr>
              <a:t>(н…)кого (н…)спрашиват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7"/>
          <p:cNvPicPr/>
          <p:nvPr/>
        </p:nvPicPr>
        <p:blipFill>
          <a:blip r:embed="rId2"/>
          <a:stretch/>
        </p:blipFill>
        <p:spPr>
          <a:xfrm>
            <a:off x="395280" y="189000"/>
            <a:ext cx="64944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Дата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F8F5B-6462-4B0D-8C4C-9AFC16BB00B0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476360" y="274320"/>
            <a:ext cx="61200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3300"/>
                </a:solidFill>
                <a:latin typeface="Arial"/>
              </a:rPr>
              <a:t>Русский  язы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07640" y="1599840"/>
            <a:ext cx="878508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Найди лишнее слово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Молоко, бревно, пальто, число, весл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Клевета, забота, весна, победа, истин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Звук, жест, долг, глаз, рука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Они, мы, сани, вы, ты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Олень, прорубь, рояль, щавель, шампунь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5" descr="8"/>
          <p:cNvPicPr/>
          <p:nvPr/>
        </p:nvPicPr>
        <p:blipFill>
          <a:blip r:embed="rId2"/>
          <a:stretch/>
        </p:blipFill>
        <p:spPr>
          <a:xfrm>
            <a:off x="395280" y="189000"/>
            <a:ext cx="584280" cy="863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27T15:36:32Z</dcterms:created>
  <dc:creator>Ирина</dc:creator>
  <dc:description/>
  <dc:language>en-US</dc:language>
  <cp:lastModifiedBy>Boris</cp:lastModifiedBy>
  <dcterms:modified xsi:type="dcterms:W3CDTF">2013-01-15T17:36:08Z</dcterms:modified>
  <cp:revision>36</cp:revision>
  <dc:subject/>
  <dc:title>Олимпиадные задания</dc:title>
</cp:coreProperties>
</file>